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3899520"/>
            <a:ext cx="7194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89952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389952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44756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44756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389952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389952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3899520"/>
            <a:ext cx="231624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35107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447560"/>
            <a:ext cx="35107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447560"/>
            <a:ext cx="35107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389952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35107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389952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447560"/>
            <a:ext cx="351072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3899520"/>
            <a:ext cx="7194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文件下载软件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骆驼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网际快车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5.2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简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282420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网际快车1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029200" cy="327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4952880"/>
            <a:ext cx="4724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际快车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106668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工具栏按钮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71600" y="1752480"/>
          <a:ext cx="64771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4771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5.2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实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启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鼠标右键点击该下载链接，弹出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快捷菜单。选择其中的“使用网际快车下载”可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添加新的下载任务”对话框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3943440" y="2571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网际快车8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2066760" cy="281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76160" y="3505320"/>
            <a:ext cx="911880" cy="23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52680" y="2228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网际快车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57600" cy="360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5257800"/>
            <a:ext cx="579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0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新的下载任务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194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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浏览器图标快速启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2943360" y="3276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网际快车3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629400" cy="1036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4267080"/>
            <a:ext cx="5105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浏览器上的网际快车图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828800" y="762120"/>
          <a:ext cx="586728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62120"/>
                    <a:ext cx="586728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286000" y="53341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状态图标的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5.2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文件管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移动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新增类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43400" y="2409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网际快车5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43560" cy="328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7400" y="525780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2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创建新类别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186080" y="2776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网际快车6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052720" cy="3471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510552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增添的新文件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  <a:ea typeface="宋体"/>
              </a:rPr>
              <a:t>Thank you very much!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74500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5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骆驼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界面简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实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项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6553080" y="6362640"/>
            <a:ext cx="18288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5.1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简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2471760" y="2138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02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533412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络骆驼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5.1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应用实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4073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打开浏览器，连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找到下载文件的链接，单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wnlo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签，可以看到网站提供的几个下载服务器的链接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右键单击其中一个链接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保存到”文本框右边的图标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确定”开始下载指定文件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可以随时单击工具栏上的“停止正在下载的任务”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使用自动下载功能（参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8136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网络骆驼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206880" cy="377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502920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网络骆驼下载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0040" y="1938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网络骆驼3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3970440" cy="40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54100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下载任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71840" y="2871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网络骆驼4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943600" cy="165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2590920"/>
            <a:ext cx="525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4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区块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2819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网络骆驼5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486400" cy="174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9680" y="556272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5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志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0040" y="2948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网络骆驼6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24280" cy="250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464832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5.1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选项设置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194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“参数设置”命令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23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网络骆驼7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4676760" cy="380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08240" y="1447920"/>
            <a:ext cx="9118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tCamel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5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网际快车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0480" y="1447560"/>
            <a:ext cx="7194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界面简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实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2.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件管理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6553080" y="6362640"/>
            <a:ext cx="1828800" cy="398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6:44:09Z</dcterms:modified>
  <cp:revision>84</cp:revision>
  <dc:subject/>
  <dc:title>Module 7: Designing a Multiple Domain Structure</dc:title>
</cp:coreProperties>
</file>